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4076-2230-436B-9508-E619EDEC177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F8C9-2833-49D6-A041-77620BD1F78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ED73-8265-4014-A217-54696035846E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7289-C7A7-4266-8D8D-3B3F70423406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0B95-9ADB-428C-B9AC-4B2D89324D4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8FB2-F18A-4299-9852-F55F1C27697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7E71-8780-4B23-82E2-DDDD6BF891D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6680-871A-4378-8CDE-B07EDFA13A06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C6E3-9D54-4713-9049-2E112364F03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1122-8111-45C1-9A56-BD04FC02AD63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A07C-621C-4CFC-B079-1B4B5F58EC46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DB35-8E46-488D-904B-409508A4559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9E3F-DFF7-49B2-9B3A-607393F4F2AC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2502-EA3E-4CD2-A835-32D0B9E02E38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D3AE-D1FE-472F-8149-6227473560E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27CE-8712-4376-9654-CEFF6A02C228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B20B-4468-4B21-8B65-ED600BCB0013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EDA6-19B7-40DF-9326-E8BC2AC28E3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FA36-43D2-4197-ABBC-06EF40AAF5E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B921-C6E1-447C-9661-8DFCCF1E9D79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DDAB-C81E-44D7-854C-31E88888028D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5A4D-3947-4197-81DE-15C0BB324C99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E2EA-6B93-47F5-8473-A87E5F144AAD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7EC1-869D-4B80-BA51-74A84423CE5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9794-AB7C-4510-9521-7F2A476734F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A6EB-1386-4BBA-B3E0-DAE26C1C305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F7AF-B179-4127-9ABE-7A0C114B1249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5949-233B-422A-8516-FECCE40B5EC3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93CA-8798-43D9-9D73-028EE7BFE58D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60E4-A22E-4DE5-8039-73F48587C22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5367-7115-4E8B-98BF-5D13F30C089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0CE4-F431-4010-8BA8-136CFD9F1269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739B-FAC9-4554-A25B-A5BCE3B2819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6CF5-D918-4C0A-A896-77ECA9E47A6C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A74B-CD77-4A45-BE95-119C9AED456F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5E81-9D41-49F3-81FB-18B7EF480841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4262-6DCE-437D-8C65-12DFE933A83D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9AA7-0E56-4791-A53F-5DDD4728A150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F445-4481-4544-A923-830246A8794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6A15-4024-4E98-A42F-73E79B82404E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593D-0AC7-482E-9727-6987BDE1F5B4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B767-1E26-4842-9D91-7546F934692F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CD10-487D-4301-91B1-E73B92C14290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7EC4-EE15-4255-A776-9A0D5062D592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BFAB-C173-49B3-87F8-63F4678C1811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298B-BDB2-478B-9EB9-1ABDF41D6EA3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F665-4269-4166-BA84-771157A1900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C173-5325-4928-B926-AB4D36AC531E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738B-B3B5-4B75-A30E-2A6262FD4268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4A85-E939-4064-8B6B-EDFCD232DC39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7DFC-F3B5-41D3-9BF3-69D307C3065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9EC-42BB-49F8-9F53-C74B67AA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2C5-266D-4E1A-B7F3-6221F053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845-D1FF-4147-8B96-FCEEDD96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1EE-211B-44E1-9A83-1D007F73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A457-11B4-49A2-A125-4E0D94C5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6960-DF82-4971-8F22-4E58D8F9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F80D-1924-4813-868D-0960097F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9BC0-8CC2-4264-9B6C-93A47F48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1A7D-6912-4F22-864E-D27B53F1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891B-12AB-43B9-B65D-6787E127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334B-AC9E-4643-AFEE-01212292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FCC-CEFE-441D-9451-4A9B6020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C5DB-1004-4159-A638-CDD63B24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2C76-BDF4-465F-A5A6-D00DE78C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2EC9-B266-41E8-8903-BEFE29F3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FE4C-1200-4D77-8255-B57687C4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181C-36E2-45FF-9965-BEAB388A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D9B34-78A0-4365-A40C-419D28E8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CB0DC-859A-42DF-9919-B7933633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B288A-D787-4B09-896B-E29CB714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B63D2-BB89-4728-91F5-CC4EEB7C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5B9AF-D2D6-45CF-8339-456B1FE5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FAD-59E6-4659-B279-73EE809C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EF086-6349-4C45-A8EB-E8298D46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BB228-8873-47B8-BC1A-08586B80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26FBB-D046-463A-8F3A-AC268A2E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10145-5D83-4EB8-821A-E83CF94E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E7EB8-6AEB-4D24-81F4-D247F5A5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B49F8-4D89-4102-8906-7A767ABA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4D0E3-5D94-4FF7-8E02-D550EDAA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8C648-B6C1-4C33-8BA2-B8056F3F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64891-2770-407D-A2D9-F8871E86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8B541-98B5-478D-8305-60DB9701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31C-9BE2-464B-9AA1-6B25CCF2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C17E3-73BD-40FB-993A-ECE55259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18B6D-48B7-4B51-A0FA-A500B0A5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C9F10-8202-4B75-96BA-15EE47FA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707E2-617A-4837-A6CF-64DB89A0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41684-6251-4E1E-8652-3AB7E788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46CA2-4604-431C-B29A-3252302A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C09D7-21BE-4CA3-9D05-B0CE6C28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D2806-03C5-4C04-84F5-B85D61FA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ADDDD-DFB7-4A0C-BA63-84E4B92B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942F28-97D0-4BC5-B498-30C5FF12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3D6-49A3-455D-9B60-65A68176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F655A-4407-4013-B100-183B5A84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CA3A1-D74E-47A9-BA5E-13CCA1D7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3050DE-FE04-4F37-B062-4479400B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59FE9-54D0-442D-9163-5BE42F9A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7B804-24D7-4861-A128-8435124A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AC048-319F-4A46-90D3-388B2F8B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DCBA3-20DA-4FAE-893F-8E52A8D9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4BE609-DB18-47B2-9C8B-D7636F27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6B08F-50DE-46D7-A4CB-BCF1EF24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776CC2-540A-4147-8885-86D657CE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BCC-AA7F-4683-A398-4C0A2820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8B51C-FDE5-49D9-96A3-8AB207F0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89E1D-E14C-4CFA-8201-636EC504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922A4-0E01-4610-967A-C6F06896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F92B3-024E-4A89-AF38-C4BE7AE8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550443-6A1E-4C14-849F-33D5A73D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0735A1-7490-4AC9-A5A7-38A98496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F31661-03E0-4C25-929E-699899F6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1C103-2B39-4427-9CFF-9891B2F6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1FC1D-A0C9-4B90-9B2D-5147875D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0803F-B822-4D3C-8F02-CC23A5B9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CF1-356B-4757-985C-29D629A8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7D07EB-5068-4439-A982-8A0D7A54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D05A23-3610-467C-81A7-E4CB42EF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4B1863-EFBE-4DA8-93A8-F63E0EDB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AE2EB-BF1C-4F9F-8EA2-2003E099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8FC81-2FCD-4D2A-82BF-59E477F6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26A5F8-013A-47A5-8AF8-549BC517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56FAF2-CB3B-4855-A061-046ACC1C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DCF279-A48F-4687-B136-0E2E6D0D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90CBE-A00B-44E8-B3C8-EADF05D7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D0668F-6734-4A45-9509-F68FEB99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2B4-3F52-44A1-BDED-E44FE454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30AE3-EF33-4C99-A383-54B4D1C8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E2D46E-7913-4867-8F23-1B2B0C66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470823-5C4A-4E63-9A37-3AE60490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F301C-E68C-4EE8-8D0E-A0BDF3A4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CFD853-B2CF-4AE2-B8E4-01E011D0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9E36-8FD7-4BBE-83C9-DD54BC72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9B87-74B7-46B2-87DE-B50C42190EE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6E26-72C4-4CA8-979F-E98EDBE89FB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9DFC-5DD7-4355-B8FC-52DDE87C4A4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1A7C-9D6B-4219-A8CD-1FE8D73399B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8013-F52B-4CEC-8706-7AFDC2544C5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BA2F-1CBE-4C5C-90FA-991313DAAB8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CD09-F5AA-44CA-A2D1-1FF41FC39F18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84000" y="13410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1f497d"/>
                </a:solidFill>
                <a:latin typeface="Century Schoolbook"/>
              </a:rPr>
              <a:t>HIDRATACIÓN</a:t>
            </a:r>
            <a:endParaRPr b="0" lang="en-US" sz="54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00360" y="5003640"/>
            <a:ext cx="395748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97d"/>
                </a:solidFill>
                <a:latin typeface="Century Schoolbook"/>
              </a:rPr>
              <a:t>Dra. Thelma Suau 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97d"/>
                </a:solidFill>
                <a:latin typeface="Century Schoolbook"/>
              </a:rPr>
              <a:t>Dpto. Ped y cirugia Infantil S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4" descr="logo U"/>
          <p:cNvPicPr/>
          <p:nvPr/>
        </p:nvPicPr>
        <p:blipFill>
          <a:blip r:embed="rId1"/>
          <a:stretch/>
        </p:blipFill>
        <p:spPr>
          <a:xfrm>
            <a:off x="5508720" y="3068640"/>
            <a:ext cx="806400" cy="1512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http://t1.gstatic.com/images?q=tbn:ANd9GcRSk28m57rCwmeP74VLZyQOOyysF7QyUQ6GxcwGln-tt6wn5gHDhg"/>
          <p:cNvPicPr/>
          <p:nvPr/>
        </p:nvPicPr>
        <p:blipFill>
          <a:blip r:embed="rId2"/>
          <a:stretch/>
        </p:blipFill>
        <p:spPr>
          <a:xfrm>
            <a:off x="900000" y="333360"/>
            <a:ext cx="3024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tra forma de calcular la necesidad de ag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Superficie corporal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SC=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PESO X 4)+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ctr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PESO + 90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requiere del conocimiento del peso y talla para su cálculo o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utilización de tablas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e utiliza de preferencia en pacientes mayores de 20 Kg. Y se estiman como entre 1.800 a 2000 ml/m² sc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entury Schoolbook"/>
              </a:rPr>
              <a:t>APORTE VOLUMEN HOLLIDAY V/S SC</a:t>
            </a:r>
            <a:br>
              <a:rPr sz="2700"/>
            </a:br>
            <a:endParaRPr b="0" lang="en-US" sz="27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993080" cy="5113440"/>
          </a:xfrm>
          <a:prstGeom prst="rect">
            <a:avLst/>
          </a:prstGeom>
          <a:ln w="0">
            <a:noFill/>
          </a:ln>
        </p:spPr>
      </p:pic>
      <p:sp>
        <p:nvSpPr>
          <p:cNvPr id="385" name="3 Flecha arriba"/>
          <p:cNvSpPr/>
          <p:nvPr/>
        </p:nvSpPr>
        <p:spPr>
          <a:xfrm>
            <a:off x="2587680" y="3860640"/>
            <a:ext cx="243000" cy="97812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CALCULO VELOCIDAD INFUS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7" name="2 Marcador de contenido" descr=""/>
          <p:cNvPicPr/>
          <p:nvPr/>
        </p:nvPicPr>
        <p:blipFill>
          <a:blip r:embed="rId1"/>
          <a:stretch/>
        </p:blipFill>
        <p:spPr>
          <a:xfrm>
            <a:off x="365040" y="1603440"/>
            <a:ext cx="755964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JEMPL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OLLIDA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mayor 1 año  6 meses, peso 11,5 K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0 x 10 = 1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,5 x 50  =     75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otal 1075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5 GOTAS POR MINU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270320" y="1125000"/>
            <a:ext cx="36576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UPERFICIE CORP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C=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11,5 X 4) + 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1,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OTAL: 1800- 2000 X 0,5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940 – 104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3 – 14 GOTAS/M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entury Schoolbook"/>
              </a:rPr>
              <a:t>REQUERIMIENTOS DE ELECTROLITOS: </a:t>
            </a:r>
            <a:br>
              <a:rPr sz="3200"/>
            </a:b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Na+ 3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K+ 2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Cl- 5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1" descr="C:\Documents and Settings\thelma\Mis documentos\Documentos Thelma\CLASES\libro_transtornos_clinicos_de_agua_electrolitos_grd.jpg"/>
          <p:cNvPicPr/>
          <p:nvPr/>
        </p:nvPicPr>
        <p:blipFill>
          <a:blip r:embed="rId1"/>
          <a:stretch/>
        </p:blipFill>
        <p:spPr>
          <a:xfrm>
            <a:off x="5796000" y="1844640"/>
            <a:ext cx="2395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DEFICIT - DESHIDRAT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68360" y="1844640"/>
          <a:ext cx="7848720" cy="4227480"/>
        </p:xfrm>
        <a:graphic>
          <a:graphicData uri="http://schemas.openxmlformats.org/drawingml/2006/table">
            <a:tbl>
              <a:tblPr/>
              <a:tblGrid>
                <a:gridCol w="2052720"/>
                <a:gridCol w="1541160"/>
                <a:gridCol w="2086200"/>
                <a:gridCol w="2168640"/>
              </a:tblGrid>
              <a:tr h="40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: le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I: moderad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II: sev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rgor y elasti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d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y 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co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 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r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c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car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o déb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ur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uria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an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ntan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rimida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rimida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ión oc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jos hund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u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Rectangle 1"/>
          <p:cNvSpPr/>
          <p:nvPr/>
        </p:nvSpPr>
        <p:spPr>
          <a:xfrm>
            <a:off x="3251520" y="5976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ignos y Síntomas según grado de deshidrat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DEFICIT SEGÚN PERDIDA DE PES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95280" y="1844640"/>
          <a:ext cx="7529400" cy="3024360"/>
        </p:xfrm>
        <a:graphic>
          <a:graphicData uri="http://schemas.openxmlformats.org/drawingml/2006/table">
            <a:tbl>
              <a:tblPr/>
              <a:tblGrid>
                <a:gridCol w="3456000"/>
                <a:gridCol w="2089080"/>
                <a:gridCol w="19843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FIC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HIDRATAC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C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Y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DER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V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02" name="Picture 2" descr="C:\Documents and Settings\thelma\Mis documentos\Documentos Thelma\CLASES\deshidratacion21.jpg"/>
          <p:cNvPicPr/>
          <p:nvPr/>
        </p:nvPicPr>
        <p:blipFill>
          <a:blip r:embed="rId1"/>
          <a:stretch/>
        </p:blipFill>
        <p:spPr>
          <a:xfrm>
            <a:off x="539640" y="836640"/>
            <a:ext cx="3024360" cy="3936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C:\Documents and Settings\thelma\Mis documentos\Documentos Thelma\CLASES\DESHIDRATMOD.jpg"/>
          <p:cNvPicPr/>
          <p:nvPr/>
        </p:nvPicPr>
        <p:blipFill>
          <a:blip r:embed="rId2"/>
          <a:stretch/>
        </p:blipFill>
        <p:spPr>
          <a:xfrm>
            <a:off x="3564000" y="549360"/>
            <a:ext cx="4206960" cy="2797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Documents and Settings\thelma\Mis documentos\Documentos Thelma\CLASES\deshid grave.jpg"/>
          <p:cNvPicPr/>
          <p:nvPr/>
        </p:nvPicPr>
        <p:blipFill>
          <a:blip r:embed="rId3"/>
          <a:stretch/>
        </p:blipFill>
        <p:spPr>
          <a:xfrm>
            <a:off x="3635280" y="3357720"/>
            <a:ext cx="4249800" cy="322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entury Schoolbook"/>
              </a:rPr>
              <a:t>EL AGUA ES VIDA</a:t>
            </a:r>
            <a:endParaRPr b="0" lang="en-US" sz="44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63" name="6 Marcador de contenido" descr="desierto.jpg"/>
          <p:cNvPicPr/>
          <p:nvPr/>
        </p:nvPicPr>
        <p:blipFill>
          <a:blip r:embed="rId1"/>
          <a:stretch/>
        </p:blipFill>
        <p:spPr>
          <a:xfrm>
            <a:off x="468360" y="1628640"/>
            <a:ext cx="3510000" cy="2351160"/>
          </a:xfrm>
          <a:prstGeom prst="rect">
            <a:avLst/>
          </a:prstGeom>
          <a:ln w="0">
            <a:noFill/>
          </a:ln>
        </p:spPr>
      </p:pic>
      <p:pic>
        <p:nvPicPr>
          <p:cNvPr id="364" name="7 Marcador de contenido" descr="desierto florido.jpg"/>
          <p:cNvPicPr/>
          <p:nvPr/>
        </p:nvPicPr>
        <p:blipFill>
          <a:blip r:embed="rId2"/>
          <a:stretch/>
        </p:blipFill>
        <p:spPr>
          <a:xfrm>
            <a:off x="4270320" y="2685960"/>
            <a:ext cx="3657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PERDIDAS PATOLOGICA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39640" y="1773360"/>
          <a:ext cx="7488360" cy="4863960"/>
        </p:xfrm>
        <a:graphic>
          <a:graphicData uri="http://schemas.openxmlformats.org/drawingml/2006/table">
            <a:tbl>
              <a:tblPr/>
              <a:tblGrid>
                <a:gridCol w="2868840"/>
                <a:gridCol w="2333520"/>
                <a:gridCol w="2286000"/>
              </a:tblGrid>
              <a:tr h="276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M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na Radi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ubadora (RN P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tot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do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madu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pn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ilador humid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queostom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CTO GASTROINTEST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m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cción de S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u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/Anu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SCELAN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enaje quirúr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potiroid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cer espa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DE ADMINISTRACIÓ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E D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Causa: Reg 0, deshidratación, et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Grado de deshidrat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ipo Osmola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Hipo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so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Hiper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ndemnidad de la función rena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VIA DE ADMINISTR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VIA 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s de Gastroenteritis Aguda estudios demuestran que el aporte por vía oral a través de Gastroclisis, sonda nasogástrica son mejor tolerados y pueden reponer el déficit en pocas horas (4 HORAS), lo que evitaría la hospitalizació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utilizan Sales de Rehidratación con Na⁺ 45 – 60 meq/L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1f497d"/>
                </a:solidFill>
                <a:latin typeface="Century Schoolbook"/>
              </a:rPr>
              <a:t>HIDRATACION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218556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Glucosa 111 mM/L (20 g/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Sodio 90 mEq/L (lactantes sodio 45-60mEq/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otasio 2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itrato 3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loruro 8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143000" y="17524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LUCION 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aporte puede ser calculado en deshidratación leve o moderada de la siguiente form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Hidratación límite o deshidratación leve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-10 ml/k después de cada deposi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5ml  a 10 ml o 1 -2 cucharada cada 5 minutos administrar en 2 a 4 hor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2 ml/K después de cada vómit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de 7 meses, 8,3 Kg, deshidratado leve aporte en 4 hora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50cc/K = 415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 5cc (60cc/hr) a 10 cc (120cc/hr) cada 5 minutos por 4 horas =  240cc a 48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 – 15 cc/K (83 - 124 cc) por 4 horas = 330 - 498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eshidratación Moderada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50 – 100 ml/K/hr administrar en 2  a 4 hor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20 ml o 4 cucharada cada 5 minutos (240 cc/h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Si no tolera, administrar bolo Suero Fisiológico 20cc/K y continuar con aporte vía 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de 7 meses, 8,3 Kg, deshidratado moderado aporte en 4 hora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100 cc/K = 83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 15cc (180cc/hr) a 20 cc (240 cc/hr) cada 5 minutos por 4 horas =  720cc a 96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0 – 30 cc/K (166 -  249 cc) por 4 horas = 664 - 996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VIA DE ADMINISTR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VIA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acientes hospitalizados se ha preferido la utilización de la vía parenteral que permite un aporte directo al intravascula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utiliza en el caso de  pacientes, en condi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Shoc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Deshidratados sever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mprometidos de concienc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Ile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n ayun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L AGUA ES EL PRINCIPAL COMPONENTE DEL ORGANISM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395280" y="2278080"/>
          <a:ext cx="8345520" cy="33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8080"/>
                    <a:ext cx="834552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6496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755640" y="1901880"/>
          <a:ext cx="6718320" cy="4041720"/>
        </p:xfrm>
        <a:graphic>
          <a:graphicData uri="http://schemas.openxmlformats.org/drawingml/2006/table">
            <a:tbl>
              <a:tblPr/>
              <a:tblGrid>
                <a:gridCol w="843120"/>
                <a:gridCol w="1365120"/>
                <a:gridCol w="944640"/>
                <a:gridCol w="1363680"/>
                <a:gridCol w="2201760"/>
              </a:tblGrid>
              <a:tr h="1023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C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D.  PATOLO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.: Pacte. de 10 K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  Le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órm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 (5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3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500 + 300 =   18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  Moder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 (10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4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1000 + 400 = 2.4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 Sev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ll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 (15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5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1500 + 400 = 2.9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Rectangle 39"/>
          <p:cNvSpPr/>
          <p:nvPr/>
        </p:nvSpPr>
        <p:spPr>
          <a:xfrm>
            <a:off x="755640" y="1281600"/>
            <a:ext cx="604836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á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culo de aporte de volumen seg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ú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 grado de deshidrataci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administra la mitad del volumen en las primeras 8 horas y el resto en las próximas 16 horas. O se calcula en 24 h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tros en urgencia recuperan déficit en 4 hrs. Y realiment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o olvidar que la rehidratación debe evaluarse clínicamente de manera continua y reevaluar el aporte si es neces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o olvidar que en deshidrataciones hipertónicas la reposición del déficit debe ser más lenta y por tanto se calcula la mitad del déficit para las primeras 24 horas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 de compromiso hemodinámico o shock se debe administrar bolos de Sol. Fisiológica 20cc/K en 20 minutos, repetir hasta lograr mejoría en estado hemodinámic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 de no recuperar presiones puede administrarse soluciones coloidales y luego instalar CVC para administrar drogas vasoactiv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TIPO DE FLUIDO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acientes sanos la administración de fluidos endovenosos debería ser dado en solución salina (Suero fisiológico 0,9%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ₒ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) 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reparados con glucosa 5% + electrolitos (Na⁺ 70meq/lt + K⁺ si la función renal está conservada) esto último para asegurar aporte de glucosa a nivel cerebral, disminuir el catabolismo proteico y evitar la cetoacidosi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aportar soluciones bajas en electrolitos y mantenidas en el tiempo, contribuye a aumentar el riesgo de hiponatrem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PREPARADOS DE NAC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1 g de NaCl aporta 17 mEq de Na y 17 mEq de Cl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Usamos NaCl 10%, o sea que en l0 cc de NaCl 10% tenemos 1 g de este compuesto, vale decir 17 mEq de Na (1,7 mEq/ml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i ponemos 10 cc de NaCl 10% en 500 cc de solución glucosada 5%, estamos poniendo 17 mEq de sodio en medio litro de solución, o sea, 34 mEq en 1 litr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i ponemos 20 cc NaCl 10% en 1000cc de SG 5%, aportaremos 68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SOLUCIONES SEGÚN TIPO OSMOLAR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Tonicidad de la solución según tipo osmola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Desh. hipertónica (natremia &gt; 15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30 - 4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isotónica (natremia 130 - 15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50 - 6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hipotónica (natremia 120 - 13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70 - 8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hipotónica severa (natremia &lt; 120):Tonic. 80 - 10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PRIMERA PART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44" name="6 Marcador de posición de imagen" descr="http://2.bp.blogspot.com/-MoWk1mUF5Jk/UZpPQHZneQI/AAAAAAAAA6U/QSsZv0802D8/s1600/breakandcontinue.jpg"/>
          <p:cNvPicPr/>
          <p:nvPr/>
        </p:nvPicPr>
        <p:blipFill>
          <a:blip r:embed="rId1"/>
          <a:stretch/>
        </p:blipFill>
        <p:spPr>
          <a:xfrm>
            <a:off x="1476360" y="1484280"/>
            <a:ext cx="51656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RETOMAMOS FELICES!!!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7" name="3 Imagen" descr="http://pensamientospositivos9.files.wordpress.com/2011/08/r-positivo-_1.jpeg?w=300&amp;h=200"/>
          <p:cNvPicPr/>
          <p:nvPr/>
        </p:nvPicPr>
        <p:blipFill>
          <a:blip r:embed="rId1"/>
          <a:stretch/>
        </p:blipFill>
        <p:spPr>
          <a:xfrm>
            <a:off x="1908000" y="1844640"/>
            <a:ext cx="5472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PERKALEMI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KALEMIA sobre 5,5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´CAUS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emóli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idosis metaból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suficiencia Renal A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ipoaldosteronismo (HSRC perdedora de sa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ármacos: (-) ECA, AI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3 Rectángulo"/>
          <p:cNvSpPr/>
          <p:nvPr/>
        </p:nvSpPr>
        <p:spPr>
          <a:xfrm>
            <a:off x="539640" y="907920"/>
            <a:ext cx="770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QUERIMIENTO: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es la cantidad de un sustrato o nutriente que asegura la integridad y  buen funcionamiento d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QUERIMIENTO BASAL: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es el requerimiento de un individuo en condiciones metabólicas bas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COMENDACIÓN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: es una cantidad mayor que el requerimiento y que pretende asegurar un adecuado aporte a los individuos de una población, considerando la variabilidad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PERKALEMI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ATAMIENTO: Monitorización UPC o U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sinas de Intercambio Ionico: Kayexel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gr/K rectal u oral diluido el glu HT (30 o 50%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Gluconato de Calcio ev lento 1cc/k en 30 minutos, seguido de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&lt;bicarbonato de Na</a:t>
            </a: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 1 meq/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Glucosa + Insuli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O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&lt; 135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atrogen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isminución del volumen circulante: pérdidas gastrointestinales (diarrea, vómitos), Dérmicas FQ), Renales (Nefropatía perdedora de sal, diuréticos, hipoaldosteronismo, Estado edematoso (I. Crdíaca, cirrosis, Sd. Nefrótic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iuréticos tiazíd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. Renal: Ag y C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xceso ADH (Secreción inapropiada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O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i hay compromiso neurológico (cefalea, náuseas, CEG, letargia, convulsione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olución Salina HT 3% (NaCl 10% diluído 1/3 + 2/3 SG 5%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Objetivo llevar Natremia a 125 meq/l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éficit= (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eseado - Na⁺ actual)x 0,3x pes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BIC     1-2meq/lt/h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dealmente el  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no debe ser mayor a 10-15meq/d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i no hay compromiso neurológico no requiere corrección con solución salina hiper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Line 6"/>
          <p:cNvSpPr/>
          <p:nvPr/>
        </p:nvSpPr>
        <p:spPr>
          <a:xfrm flipV="1">
            <a:off x="2050920" y="3716280"/>
            <a:ext cx="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 flipV="1">
            <a:off x="2771640" y="4220640"/>
            <a:ext cx="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ER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 145-150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de agua lib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poner el 50% del déficit en las primeras 24 h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iendo del valor de N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rregir con soluciones 40-30-20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velocidad de corrección no &gt; 1 meq/Hr o 15 meq/24 h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RECAPITULEM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838080" y="685800"/>
            <a:ext cx="723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ACIDOSI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stado fisiopatológic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n que hay más ácido 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menos base de l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n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914400" y="3581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ALCALOSI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Hay más base o menos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 de lo n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3300"/>
                </a:solidFill>
                <a:latin typeface="Century Schoolbook"/>
              </a:rPr>
              <a:t>ALTERACIONES ÁCIDO - BÁSICAS: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Des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Parcialmente 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027"/>
          <p:cNvSpPr/>
          <p:nvPr/>
        </p:nvSpPr>
        <p:spPr>
          <a:xfrm>
            <a:off x="942480" y="1600200"/>
            <a:ext cx="698436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                         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+   H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+ 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1028"/>
          <p:cNvGrpSpPr/>
          <p:nvPr/>
        </p:nvGrpSpPr>
        <p:grpSpPr>
          <a:xfrm>
            <a:off x="2516040" y="1981080"/>
            <a:ext cx="1904760" cy="152280"/>
            <a:chOff x="2516040" y="1981080"/>
            <a:chExt cx="1904760" cy="152280"/>
          </a:xfrm>
        </p:grpSpPr>
        <p:sp>
          <p:nvSpPr>
            <p:cNvPr id="468" name="Line 1029"/>
            <p:cNvSpPr/>
            <p:nvPr/>
          </p:nvSpPr>
          <p:spPr>
            <a:xfrm>
              <a:off x="2516040" y="1981080"/>
              <a:ext cx="190476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030"/>
            <p:cNvSpPr/>
            <p:nvPr/>
          </p:nvSpPr>
          <p:spPr>
            <a:xfrm flipH="1">
              <a:off x="2591640" y="2133360"/>
              <a:ext cx="175284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Line 1033"/>
          <p:cNvSpPr/>
          <p:nvPr/>
        </p:nvSpPr>
        <p:spPr>
          <a:xfrm flipH="1" flipV="1">
            <a:off x="1448280" y="2502000"/>
            <a:ext cx="2160" cy="110808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034"/>
          <p:cNvSpPr/>
          <p:nvPr/>
        </p:nvSpPr>
        <p:spPr>
          <a:xfrm flipH="1" flipV="1">
            <a:off x="1600560" y="2549520"/>
            <a:ext cx="2160" cy="110808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2"/>
          <p:cNvSpPr txBox="1"/>
          <p:nvPr/>
        </p:nvSpPr>
        <p:spPr>
          <a:xfrm>
            <a:off x="609480" y="2895480"/>
            <a:ext cx="17812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cidosis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WordArt 3"/>
          <p:cNvSpPr txBox="1"/>
          <p:nvPr/>
        </p:nvSpPr>
        <p:spPr>
          <a:xfrm>
            <a:off x="5943600" y="2971800"/>
            <a:ext cx="18763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lcalosis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4" name="WordArt 4"/>
          <p:cNvSpPr txBox="1"/>
          <p:nvPr/>
        </p:nvSpPr>
        <p:spPr>
          <a:xfrm>
            <a:off x="3276720" y="1295280"/>
            <a:ext cx="2019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etabólica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WordArt 5"/>
          <p:cNvSpPr txBox="1"/>
          <p:nvPr/>
        </p:nvSpPr>
        <p:spPr>
          <a:xfrm>
            <a:off x="3124080" y="4591080"/>
            <a:ext cx="2190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espiratoria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AutoShape 6"/>
          <p:cNvSpPr/>
          <p:nvPr/>
        </p:nvSpPr>
        <p:spPr>
          <a:xfrm rot="19884600">
            <a:off x="1905120" y="228564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7"/>
          <p:cNvSpPr/>
          <p:nvPr/>
        </p:nvSpPr>
        <p:spPr>
          <a:xfrm rot="2404800">
            <a:off x="1790280" y="392400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8"/>
          <p:cNvSpPr/>
          <p:nvPr/>
        </p:nvSpPr>
        <p:spPr>
          <a:xfrm rot="8585400">
            <a:off x="5029200" y="411408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9"/>
          <p:cNvSpPr/>
          <p:nvPr/>
        </p:nvSpPr>
        <p:spPr>
          <a:xfrm rot="13384200">
            <a:off x="5105520" y="220896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3" descr="Sin título2"/>
          <p:cNvPicPr/>
          <p:nvPr/>
        </p:nvPicPr>
        <p:blipFill>
          <a:blip r:embed="rId1"/>
          <a:stretch/>
        </p:blipFill>
        <p:spPr>
          <a:xfrm>
            <a:off x="380880" y="700200"/>
            <a:ext cx="85345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L CONTROL DE LA OSMOLARIDAD PLASMÁTICA Y DEL VOLUMEN INTRAVASCULAR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2349000"/>
            <a:ext cx="746748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DH:  AUMENTO DE OSMOLARIDAD, EN TUBULO COLECTOR PRODUCE APERTURA CANALES DE AG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D: ESTIMULADA POR OSMORECEPTOR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Y BARORECEPT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MBOS MECANISMOS LLEVAN A UN AUMENTO DEL AGUA Y DISMINUCION OSMOLAR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1026" descr="Sin título3"/>
          <p:cNvPicPr/>
          <p:nvPr/>
        </p:nvPicPr>
        <p:blipFill>
          <a:blip r:embed="rId1"/>
          <a:stretch/>
        </p:blipFill>
        <p:spPr>
          <a:xfrm>
            <a:off x="304920" y="1028880"/>
            <a:ext cx="8426160" cy="54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Sin título1"/>
          <p:cNvPicPr/>
          <p:nvPr/>
        </p:nvPicPr>
        <p:blipFill>
          <a:blip r:embed="rId1"/>
          <a:stretch/>
        </p:blipFill>
        <p:spPr>
          <a:xfrm>
            <a:off x="1066680" y="173160"/>
            <a:ext cx="693432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GASES EN SANGR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H: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 informa sobre la concentración d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hidrogenion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</a:t>
            </a:r>
            <a:r>
              <a:rPr b="0" lang="es-MX" sz="2400" spc="-1" strike="noStrike">
                <a:solidFill>
                  <a:srgbClr val="ff3300"/>
                </a:solidFill>
                <a:latin typeface="Century Schoolbook"/>
              </a:rPr>
              <a:t>CO</a:t>
            </a:r>
            <a:r>
              <a:rPr b="0" lang="es-MX" sz="1400" spc="-1" strike="noStrike">
                <a:solidFill>
                  <a:srgbClr val="ff3300"/>
                </a:solidFill>
                <a:latin typeface="Century Schoolbook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informa sobre el component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respirator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Déficit de base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: informa sobre el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componente metabólic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Bicarbonato estándar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: es la concentración d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bicarbonato que existiría con una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PCO2 de 40 mm H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Century Schoolbook"/>
              </a:rPr>
              <a:t>BICARBONATO DE SODI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MX" sz="2400" spc="-1" strike="noStrike">
                <a:solidFill>
                  <a:srgbClr val="ff3300"/>
                </a:solidFill>
                <a:latin typeface="Century Schoolbook"/>
              </a:rPr>
              <a:t>1 gramo de bicarbonato de sodio aporta 11,9 mEq de ion sodio y 11,9 mEq de ion    bicarbona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1/6 M: 0,16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2/3 M: 0,6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5%: 0,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Bicarbonato 8,4%: 1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10%: 1,2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CÁLCULO DE BICARBONAT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.B. X peso del paciente X 0,6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(de esta cantidad se aporta sólo la mitad en las primeras 24 hora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3 a 5 mEq/K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Century Schoolbook"/>
              </a:rPr>
              <a:t>CORRECCIÓN ACIDOSI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H &lt; 7,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icarbonato st &lt; 12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 valores mayores si hay pérdidas aumentadas y mantenid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D los valores son: pH &lt;6,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BICARBONATO DE SODI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Al corregir acidosis con bicarbonato se modifica concentración d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otasio</a:t>
            </a: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K+ vuelve al compartimiento intracelular. Potasio corregido se obtiene restando 0,6 mEq por cada décima de pH que se corrig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Calcio</a:t>
            </a: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Ca++ vuelve a hueso. Corrección rápida lleva a riesgo de hipocalcemi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2195280" y="44370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entury Schoolbook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5" name="Picture 1" descr="C:\Documents and Settings\thelma\Mis documentos\Documentos Thelma\CLASES\NIÑOS.jpg"/>
          <p:cNvPicPr/>
          <p:nvPr/>
        </p:nvPicPr>
        <p:blipFill>
          <a:blip r:embed="rId1"/>
          <a:stretch/>
        </p:blipFill>
        <p:spPr>
          <a:xfrm>
            <a:off x="1908000" y="549360"/>
            <a:ext cx="63597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REGULACION DEL VOLUMEN INTRAVASCULAR 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E D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alance de Sodio (Na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l consumo y la excreción ocurre a nivel renal, este a su vez depende de la filtración glomerular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Túbulo proximal se reabsorbe el 65% del Na⁺ filtrado, el resto se reabsorbe en el asa de Henle y finalmente a nivel del túbulo distal por acción de aldosterona que produce reabsorción de Na⁺ y excreción de Potasio (K⁺)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ualquier cambio en estos factores llevará a un aumento o disminución en la concentración de Na⁺ y/o K⁺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C:\Documents and Settings\thelma\Mis documentos\Documentos Thelma\CLASES\bebes_necesitan_beber_agua.jpg"/>
          <p:cNvPicPr/>
          <p:nvPr/>
        </p:nvPicPr>
        <p:blipFill>
          <a:blip r:embed="rId1"/>
          <a:stretch/>
        </p:blipFill>
        <p:spPr>
          <a:xfrm>
            <a:off x="5867280" y="2205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700280"/>
            <a:ext cx="74674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necesidades basales de agua están dadas po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s pérdidas insensibles (piel, pulmones)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érdidas obligadas por orina y deposiciones 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or la actividad dinámica específic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adicionalmente se ha utilizado la fórmula de Holliday que permite el rápido cálculo de volumen  y homologa el gasto calórico a las necesidades de agua y se calcula según lo siguient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0 ml o kcal/Kg los primero 10 Kg. 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0 ml o Kcal/Kg los siguientes 10 Kg. 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0 ml o kcal/Kg desde los 20 Kg en adela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0:21:01Z</dcterms:created>
  <dc:creator>Valued Packard Bell Customer</dc:creator>
  <dc:description/>
  <dc:language>en-US</dc:language>
  <cp:lastModifiedBy>Usuario</cp:lastModifiedBy>
  <dcterms:modified xsi:type="dcterms:W3CDTF">2015-04-17T02:04:10Z</dcterms:modified>
  <cp:revision>48</cp:revision>
  <dc:subject/>
  <dc:title>Diapositiva 1</dc:title>
</cp:coreProperties>
</file>